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E0F-9100-4DD5-BD43-976390A8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7BD-0416-471B-8DE2-65CD1EE9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B81-9FE1-4819-86E9-49BBDB98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339-EE73-425C-B6EC-4591FDBD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8FFD-89DE-480A-A329-53241828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74A-E871-455E-B00D-DB5BFCAC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206-608A-41F4-B317-0DB82F16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995-C7FC-4C33-AB82-569544C9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514-F445-4E80-BFFD-A89C033F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A60-F9D3-4739-BC78-1EE5ECD4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5B1D-3EFE-4646-9BBB-68ED8023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D78-B8CD-4ABD-A5A2-7A491FB0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16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6000" y="6244920"/>
            <a:ext cx="14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CE36-4A61-41AD-B133-1B6297E64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175520" y="6400800"/>
            <a:ext cx="1593720" cy="374760"/>
            <a:chOff x="7175520" y="6400800"/>
            <a:chExt cx="1593720" cy="374760"/>
          </a:xfrm>
        </p:grpSpPr>
        <p:sp>
          <p:nvSpPr>
            <p:cNvPr id="6" name=""/>
            <p:cNvSpPr/>
            <p:nvPr/>
          </p:nvSpPr>
          <p:spPr>
            <a:xfrm>
              <a:off x="7175520" y="64072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0000"/>
                  </a:solidFill>
                  <a:latin typeface="Times New Roman"/>
                </a:rPr>
                <a:t>Avalona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05920" y="6519960"/>
              <a:ext cx="180720" cy="15084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85280" y="6515280"/>
              <a:ext cx="18396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33000" y="6400800"/>
              <a:ext cx="18252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1:50:21Z</dcterms:created>
  <dc:creator>ECDL Foundation</dc:creator>
  <dc:description/>
  <dc:language>en-US</dc:language>
  <cp:lastModifiedBy>European Computer Driving Licence Foundation Ltd.</cp:lastModifiedBy>
  <dcterms:modified xsi:type="dcterms:W3CDTF">2009-08-25T10:23:07Z</dcterms:modified>
  <cp:revision>3</cp:revision>
  <dc:subject/>
  <dc:title/>
</cp:coreProperties>
</file>